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D859-887B-4090-8A91-F02875282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3D39-D6CC-46DD-AA94-46E8F74220C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gging is an online journal that allows writers to interact through comments.  Specifically, KIDBLOG was developed by Matt Hardy, a third grade teacher who wanted his students to keep up with technology in his classroom. Today, we will explore using KIDBLOG in the reading classroo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D44E-DE74-4214-ADA6-A98D58A646B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begin to make changes and adopt new practices it is natural to be concerned.  There are seven levels of concern listed and describe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B0D76-D906-49F2-8828-76E9F56EA64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BLOG training will be provided.  It will not be necessary for you to research and set it up alone.  Support will be provided along the wa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2BEBC-CB49-44B0-868F-D24DE810DF1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help with KIDBLOG along the way, don’t be afraid to ask for help from your media specialist.  Chances are others may have the same ques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5DB1-4A8E-4149-A7C9-D26EF9BD9AA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sk – what kind of financial support do we need?  The answer is none.  KIDBLOG is so easy that it will be simple to accomplish training and set up during regularly scheduled professional developm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6E86-2C2B-4DEB-A490-41CD7C4F818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BLOG meets the National Educational Standards as lis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A00D6-887F-41C1-97EF-C339C8858FE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BLOG also aligns with the state curriculum, specifically in the areas of reading and technolo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0ACC-6DD0-4178-9256-20322B903FB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uccess with KIDBLOG can be evaluated using formative and summative assessmen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8CDE3-765A-45D8-966A-3D309F0B06E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BLOG is an exciting blogging platform designed specifically for the elementary school student.  It is easy to use and accomplishes reading, writing and technology goals into daily learning.  Who is ready to get start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E3D2-81F2-495C-A85B-97179731D16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s listed were utilized for purposes of this presentation, however there are links provided that will also provide more information about KIDBLOG.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BBD3-1E4C-4111-B651-13B3FC672B9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introduction that we will view of KIDBLOG and it’s featur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0CF90-4E82-4F00-869D-DDE647F5F7B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asic information highlights some of the most important features of KIDBLOG and why it is a great tool for elementary students to utiliz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A199-9E46-4C58-816C-E4412C11849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motivating reasons, as listed, to utilize KIDBLOG in the classroom.  One of the most important benefits is that it inspires kids to write while infusing technology into their everyday learn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1D0F-D9A3-46AA-8B7B-663AFCD2221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focus on comprehension strategies for before, during and after reading, KIDBLOG can be utilized to support our efforts, as well as emphasize writing along the wa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C6D48-6852-47DD-94AF-ED35EC0CE1B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isplays last year’s data, however we will continue to focus on reading proficiency with an emphasis on comprehension this year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F603-95D8-447B-B6C6-5192D2746AD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Development will be provided to demonstrate how KIDBLOG can support our efforts to reach high standards at a minimum proficiency or better in read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7A2F-CB29-4623-A068-0114F5CB506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estion we often ask, but not usually out 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o remember is that change occurs over time.  You will not be expected to implement over night or without help.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3653-981B-4758-BA6E-72E2E9A27E6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ught to keep in mi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9D40D-2CF1-4D9A-9A4A-83B7E4422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011DF-003F-4113-8727-4A257D006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B2E79-6231-4DB0-9EA3-DB670D621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18200-7209-4F9D-9C96-B6780C81B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262DD-5577-4D4A-9230-F6DC1AA4D0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E3254-87CA-49DB-BDB2-A34CD040B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A651E-22E2-4230-B644-6FDC00698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7023D-0C13-4867-A952-B8BA16BEE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4862C-632D-4DC2-830C-69797A776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5303E-C5E9-483C-8EFF-64AF47AAB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860E9-03BF-4DCF-BB84-C8B041EF5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9CC87-49C9-46BD-B598-86994A32A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613925-90DC-41C2-B665-C6EE19099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D0681-5458-4C58-9663-F68AD96F0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7E35D-E068-4A42-8FA2-21A41F5E4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36F40-A1CD-4B1A-931D-1BC8D2C4B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61FD1-573B-4027-B03A-17523028ED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7811E-4139-4F3E-945C-A118130AF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3CDAB-D4C7-4275-829E-E1394154D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482F7-C5A2-4C52-84A5-C41F1F362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0738F-B0F4-4D53-9422-8C55D883C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273D6-BF93-4582-9EFD-7B8B12566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F62C3-8F35-4114-A7DC-CE2F140CC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BEA48-BABF-442A-83AE-F7B0AEF91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7A71-482D-490A-8AAF-C000EEA595C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86CE-4E76-4480-B088-DE69675596F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3366"/>
                </a:solidFill>
                <a:latin typeface="Comic Sans MS"/>
              </a:rPr>
              <a:t>Implementing KIDBLOG in the Reading Classroom</a:t>
            </a:r>
            <a:br>
              <a:rPr sz="3200"/>
            </a:br>
            <a:br>
              <a:rPr sz="3200"/>
            </a:br>
            <a:endParaRPr b="1" lang="en-US" sz="3600" spc="-1" strike="noStrike">
              <a:solidFill>
                <a:srgbClr val="006666"/>
              </a:solidFill>
              <a:latin typeface="Arial"/>
            </a:endParaRPr>
          </a:p>
        </p:txBody>
      </p:sp>
      <p:sp>
        <p:nvSpPr>
          <p:cNvPr id="103" name="PlaceHolder 1"/>
          <p:cNvSpPr>
            <a:spLocks noGrp="1"/>
          </p:cNvSpPr>
          <p:nvPr>
            <p:ph type="subTitle"/>
          </p:nvPr>
        </p:nvSpPr>
        <p:spPr>
          <a:xfrm>
            <a:off x="5714640" y="2927160"/>
            <a:ext cx="2971800" cy="1035000"/>
          </a:xfrm>
          <a:prstGeom prst="rect">
            <a:avLst/>
          </a:prstGeom>
          <a:noFill/>
          <a:ln w="0">
            <a:noFill/>
          </a:ln>
        </p:spPr>
        <p:txBody>
          <a:bodyPr anchor="b">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omic Sans MS"/>
              </a:rPr>
              <a:t>Renee’ Le Mire</a:t>
            </a:r>
            <a:endParaRPr b="0" lang="en-US" sz="1800" spc="-1" strike="noStrike">
              <a:solidFill>
                <a:srgbClr val="0033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omic Sans MS"/>
              </a:rPr>
              <a:t>Media Specialist</a:t>
            </a:r>
            <a:endParaRPr b="0" lang="en-US" sz="1800" spc="-1" strike="noStrike">
              <a:solidFill>
                <a:srgbClr val="0033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omic Sans MS"/>
              </a:rPr>
              <a:t>Sandy Hill Elementary</a:t>
            </a:r>
            <a:endParaRPr b="0" lang="en-US" sz="1800" spc="-1" strike="noStrike">
              <a:solidFill>
                <a:srgbClr val="003366"/>
              </a:solidFill>
              <a:latin typeface="Arial"/>
            </a:endParaRPr>
          </a:p>
        </p:txBody>
      </p:sp>
      <p:pic>
        <p:nvPicPr>
          <p:cNvPr id="104" name="Picture 7" descr="library-books-clip-art"/>
          <p:cNvPicPr/>
          <p:nvPr/>
        </p:nvPicPr>
        <p:blipFill>
          <a:blip r:embed="rId1"/>
          <a:stretch/>
        </p:blipFill>
        <p:spPr>
          <a:xfrm>
            <a:off x="838080" y="3429000"/>
            <a:ext cx="232416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omic Sans MS"/>
              </a:rPr>
              <a:t> </a:t>
            </a:r>
            <a:r>
              <a:rPr b="1" lang="en-US" sz="3200" spc="-1" strike="noStrike">
                <a:solidFill>
                  <a:srgbClr val="003366"/>
                </a:solidFill>
                <a:latin typeface="Comic Sans MS"/>
              </a:rPr>
              <a:t>Seven levels of concern for staff as they adopt a new practice</a:t>
            </a:r>
            <a:endParaRPr b="1" lang="en-US" sz="32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Awareness -</a:t>
            </a:r>
            <a:r>
              <a:rPr b="0" lang="en-US" sz="1800" spc="-1" strike="noStrike">
                <a:solidFill>
                  <a:srgbClr val="003366"/>
                </a:solidFill>
                <a:latin typeface="Comic Sans MS"/>
              </a:rPr>
              <a:t> </a:t>
            </a:r>
            <a:r>
              <a:rPr b="1" lang="en-US" sz="1800" spc="-1" strike="noStrike">
                <a:solidFill>
                  <a:srgbClr val="99cc99"/>
                </a:solidFill>
                <a:latin typeface="Comic Sans MS"/>
              </a:rPr>
              <a:t>express</a:t>
            </a:r>
            <a:r>
              <a:rPr b="0" lang="en-US" sz="1800" spc="-1" strike="noStrike">
                <a:solidFill>
                  <a:srgbClr val="003366"/>
                </a:solidFill>
                <a:latin typeface="Comic Sans MS"/>
              </a:rPr>
              <a:t> </a:t>
            </a:r>
            <a:r>
              <a:rPr b="1" lang="en-US" sz="1800" spc="-1" strike="noStrike">
                <a:solidFill>
                  <a:srgbClr val="99cc99"/>
                </a:solidFill>
                <a:latin typeface="Comic Sans MS"/>
              </a:rPr>
              <a:t>little concern or involvement with innovation</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Informational – </a:t>
            </a:r>
            <a:r>
              <a:rPr b="1" lang="en-US" sz="1800" spc="-1" strike="noStrike">
                <a:solidFill>
                  <a:srgbClr val="99cc99"/>
                </a:solidFill>
                <a:latin typeface="Comic Sans MS"/>
              </a:rPr>
              <a:t>have a general interest</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Personal – </a:t>
            </a:r>
            <a:r>
              <a:rPr b="1" lang="en-US" sz="1800" spc="-1" strike="noStrike">
                <a:solidFill>
                  <a:srgbClr val="99cc99"/>
                </a:solidFill>
                <a:latin typeface="Comic Sans MS"/>
              </a:rPr>
              <a:t>need to learn how it will affect those involved</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Management – </a:t>
            </a:r>
            <a:r>
              <a:rPr b="1" lang="en-US" sz="1800" spc="-1" strike="noStrike">
                <a:solidFill>
                  <a:srgbClr val="99cc99"/>
                </a:solidFill>
                <a:latin typeface="Comic Sans MS"/>
              </a:rPr>
              <a:t>learn processes/tasks and focus on information and resources</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Consequences – </a:t>
            </a:r>
            <a:r>
              <a:rPr b="1" lang="en-US" sz="1800" spc="-1" strike="noStrike">
                <a:solidFill>
                  <a:srgbClr val="99cc99"/>
                </a:solidFill>
                <a:latin typeface="Comic Sans MS"/>
              </a:rPr>
              <a:t>how will it impact students</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Collaboration – </a:t>
            </a:r>
            <a:r>
              <a:rPr b="1" lang="en-US" sz="1800" spc="-1" strike="noStrike">
                <a:solidFill>
                  <a:srgbClr val="99cc99"/>
                </a:solidFill>
                <a:latin typeface="Comic Sans MS"/>
              </a:rPr>
              <a:t>cooperate with others throughout the implementation</a:t>
            </a:r>
            <a:endParaRPr b="0" lang="en-US" sz="18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Refocusing – </a:t>
            </a:r>
            <a:r>
              <a:rPr b="1" lang="en-US" sz="1800" spc="-1" strike="noStrike">
                <a:solidFill>
                  <a:srgbClr val="99cc99"/>
                </a:solidFill>
                <a:latin typeface="Comic Sans MS"/>
              </a:rPr>
              <a:t>consider the benefits and additional alternatives.</a:t>
            </a:r>
            <a:endParaRPr b="0" lang="en-US" sz="1800" spc="-1" strike="noStrike">
              <a:solidFill>
                <a:srgbClr val="003366"/>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Comic Sans MS"/>
              </a:rPr>
              <a:t>http://www.ncrel.org/sdrs/areas/issues/educatrs/profdevl/pd2stage.htm</a:t>
            </a:r>
            <a:endParaRPr b="0" lang="en-US" sz="1000" spc="-1" strike="noStrike">
              <a:solidFill>
                <a:srgbClr val="003366"/>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pic>
        <p:nvPicPr>
          <p:cNvPr id="127" name="Picture 5" descr="concerned smile"/>
          <p:cNvPicPr/>
          <p:nvPr/>
        </p:nvPicPr>
        <p:blipFill>
          <a:blip r:embed="rId1"/>
          <a:stretch/>
        </p:blipFill>
        <p:spPr>
          <a:xfrm>
            <a:off x="5257800" y="228600"/>
            <a:ext cx="657360" cy="59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Comic Sans MS"/>
              </a:rPr>
              <a:t>KIDBLOG Training</a:t>
            </a:r>
            <a:endParaRPr b="1" lang="en-US" sz="32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1.  Survey the staff to find out what they already know about blogging.</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Prepare presentation based on needs of learner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Utilize team planning block (45 minutes) or after school meeting times to provide inform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Set aside time with each grade level of teachers to assist them in setting up blogging site.</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Provide follow up a few weeks later to address successes and/or concer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Provide plenty of time for sharing.</a:t>
            </a:r>
            <a:endParaRPr b="0" lang="en-US" sz="2400" spc="-1" strike="noStrike">
              <a:solidFill>
                <a:srgbClr val="003366"/>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Comic Sans MS"/>
              </a:rPr>
              <a:t>Do You Need Help With KIDBLOG?</a:t>
            </a:r>
            <a:r>
              <a:rPr b="1" lang="en-US" sz="3200" spc="-1" strike="noStrike">
                <a:solidFill>
                  <a:srgbClr val="003366"/>
                </a:solidFill>
                <a:latin typeface="Comic Sans MS"/>
              </a:rPr>
              <a:t> </a:t>
            </a:r>
            <a:r>
              <a:rPr b="1" lang="en-US" sz="3200" spc="-1" strike="noStrike">
                <a:solidFill>
                  <a:srgbClr val="666699"/>
                </a:solidFill>
                <a:latin typeface="Comic Sans MS"/>
              </a:rPr>
              <a:t>Media Specialist’s Role</a:t>
            </a:r>
            <a:endParaRPr b="1" lang="en-US" sz="3200" spc="-1" strike="noStrike">
              <a:solidFill>
                <a:srgbClr val="006666"/>
              </a:solidFill>
              <a:latin typeface="Arial"/>
            </a:endParaRPr>
          </a:p>
        </p:txBody>
      </p:sp>
      <p:pic>
        <p:nvPicPr>
          <p:cNvPr id="131" name="Picture 9" descr="applesmiley"/>
          <p:cNvPicPr/>
          <p:nvPr/>
        </p:nvPicPr>
        <p:blipFill>
          <a:blip r:embed="rId1"/>
          <a:stretch/>
        </p:blipFill>
        <p:spPr>
          <a:xfrm>
            <a:off x="860400" y="2362320"/>
            <a:ext cx="3724200" cy="3724200"/>
          </a:xfrm>
          <a:prstGeom prst="rect">
            <a:avLst/>
          </a:prstGeom>
          <a:ln w="0">
            <a:noFill/>
          </a:ln>
        </p:spPr>
      </p:pic>
      <p:sp>
        <p:nvSpPr>
          <p:cNvPr id="132" name="PlaceHolder 1"/>
          <p:cNvSpPr>
            <a:spLocks noGrp="1"/>
          </p:cNvSpPr>
          <p:nvPr>
            <p:ph/>
          </p:nvPr>
        </p:nvSpPr>
        <p:spPr>
          <a:xfrm>
            <a:off x="4760640" y="2361960"/>
            <a:ext cx="3770280" cy="3724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Comic Sans MS"/>
              </a:rPr>
              <a:t>	</a:t>
            </a:r>
            <a:r>
              <a:rPr b="0" lang="en-US" sz="2400" spc="-1" strike="noStrike">
                <a:solidFill>
                  <a:srgbClr val="666699"/>
                </a:solidFill>
                <a:latin typeface="Comic Sans MS"/>
              </a:rPr>
              <a:t>Here to help a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99"/>
                </a:solidFill>
                <a:latin typeface="Comic Sans MS"/>
              </a:rPr>
              <a:t>Instructional Partner</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99"/>
                </a:solidFill>
                <a:latin typeface="Comic Sans MS"/>
              </a:rPr>
              <a:t>Teacher</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99"/>
                </a:solidFill>
                <a:latin typeface="Comic Sans MS"/>
              </a:rPr>
              <a:t>Information Specialist</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99"/>
                </a:solidFill>
                <a:latin typeface="Comic Sans MS"/>
              </a:rPr>
              <a:t>Program Administrator</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3" name="PlaceHolder 2"/>
          <p:cNvSpPr>
            <a:spLocks noGrp="1"/>
          </p:cNvSpPr>
          <p:nvPr>
            <p:ph/>
          </p:nvPr>
        </p:nvSpPr>
        <p:spPr>
          <a:xfrm>
            <a:off x="-360" y="2361960"/>
            <a:ext cx="377028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omic Sans MS"/>
              </a:rPr>
              <a:t>$$ Financial Support $$</a:t>
            </a:r>
            <a:br>
              <a:rPr sz="3600"/>
            </a:br>
            <a:endParaRPr b="1" lang="en-US" sz="3600" spc="-1" strike="noStrike">
              <a:solidFill>
                <a:srgbClr val="006666"/>
              </a:solidFill>
              <a:latin typeface="Arial"/>
            </a:endParaRPr>
          </a:p>
        </p:txBody>
      </p:sp>
      <p:sp>
        <p:nvSpPr>
          <p:cNvPr id="135"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Comic Sans MS"/>
              </a:rPr>
              <a:t>KIDBLOG IS FREE!</a:t>
            </a:r>
            <a:endParaRPr b="0" lang="en-US" sz="3200" spc="-1" strike="noStrike">
              <a:solidFill>
                <a:srgbClr val="00336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99"/>
                </a:solidFill>
                <a:latin typeface="Comic Sans MS"/>
              </a:rPr>
              <a:t> </a:t>
            </a:r>
            <a:endParaRPr b="0" lang="en-US" sz="3200" spc="-1" strike="noStrike">
              <a:solidFill>
                <a:srgbClr val="00336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pic>
        <p:nvPicPr>
          <p:cNvPr id="136" name="Picture 9" descr="MC900432485[1]"/>
          <p:cNvPicPr/>
          <p:nvPr/>
        </p:nvPicPr>
        <p:blipFill>
          <a:blip r:embed="rId1"/>
          <a:stretch/>
        </p:blipFill>
        <p:spPr>
          <a:xfrm>
            <a:off x="5334120" y="3581280"/>
            <a:ext cx="1981080" cy="1181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Comic Sans MS"/>
              </a:rPr>
              <a:t>National Educational Standards – NETS</a:t>
            </a:r>
            <a:endParaRPr b="1" lang="en-US" sz="32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Creativity and Innovation</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Communication and Collaboration</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Critical Thinking, Problem Solving and Decision Making</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Digital Citizenship</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Technology Operations and Concep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omic Sans MS"/>
              </a:rPr>
              <a:t>Maryland State Curriculum</a:t>
            </a:r>
            <a:br>
              <a:rPr sz="3200"/>
            </a:br>
            <a:r>
              <a:rPr b="1" lang="en-US" sz="3200" spc="-1" strike="noStrike">
                <a:solidFill>
                  <a:srgbClr val="33cccc"/>
                </a:solidFill>
                <a:latin typeface="Comic Sans MS"/>
              </a:rPr>
              <a:t>How does it align?</a:t>
            </a:r>
            <a:endParaRPr b="1" lang="en-US" sz="3200" spc="-1" strike="noStrike">
              <a:solidFill>
                <a:srgbClr val="006666"/>
              </a:solidFill>
              <a:latin typeface="Arial"/>
            </a:endParaRPr>
          </a:p>
        </p:txBody>
      </p:sp>
      <p:sp>
        <p:nvSpPr>
          <p:cNvPr id="140"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Comic Sans MS"/>
              </a:rPr>
              <a:t> </a:t>
            </a:r>
            <a:r>
              <a:rPr b="0" lang="en-US" sz="2400" spc="-1" strike="noStrike">
                <a:solidFill>
                  <a:srgbClr val="003366"/>
                </a:solidFill>
                <a:latin typeface="Comic Sans MS"/>
              </a:rPr>
              <a:t> </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READING</a:t>
            </a:r>
            <a:endParaRPr b="0" lang="en-US" sz="24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Comic Sans MS"/>
              </a:rPr>
              <a:t>Standard 1 – General Reading Processes</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Comic Sans MS"/>
              </a:rPr>
              <a:t>Topic E – General Reading Comprehension</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Comic Sans MS"/>
              </a:rPr>
              <a:t>Indicators-2,3,4 (Before, During and After Reading Strategies)</a:t>
            </a:r>
            <a:endParaRPr b="0" lang="en-US" sz="1600" spc="-1" strike="noStrike">
              <a:solidFill>
                <a:srgbClr val="003366"/>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141"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TECHNOLOGY</a:t>
            </a:r>
            <a:r>
              <a:rPr b="0" lang="en-US" sz="2400" spc="-1" strike="noStrike" u="sng">
                <a:solidFill>
                  <a:srgbClr val="003366"/>
                </a:solidFill>
                <a:uFillTx/>
                <a:latin typeface="Comic Sans MS"/>
              </a:rPr>
              <a:t>  </a:t>
            </a:r>
            <a:endParaRPr b="0" lang="en-US" sz="2400" spc="-1" strike="noStrike">
              <a:solidFill>
                <a:srgbClr val="003366"/>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Comic Sans MS"/>
              </a:rPr>
              <a:t>Standard 1 – Technology Systems</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Comic Sans MS"/>
              </a:rPr>
              <a:t>Standard 2 – Digital Citizenship</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Comic Sans MS"/>
              </a:rPr>
              <a:t>Standard 3 - Technology for Learning and Collaboration</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Comic Sans MS"/>
              </a:rPr>
              <a:t>Standard 4 – Technology for Communication and Expression</a:t>
            </a:r>
            <a:endParaRPr b="0" lang="en-US" sz="1600" spc="-1" strike="noStrike">
              <a:solidFill>
                <a:srgbClr val="003366"/>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2" name="Picture 7" descr="computer"/>
          <p:cNvPicPr/>
          <p:nvPr/>
        </p:nvPicPr>
        <p:blipFill>
          <a:blip r:embed="rId1"/>
          <a:stretch/>
        </p:blipFill>
        <p:spPr>
          <a:xfrm>
            <a:off x="7162920" y="2590920"/>
            <a:ext cx="909360" cy="990360"/>
          </a:xfrm>
          <a:prstGeom prst="rect">
            <a:avLst/>
          </a:prstGeom>
          <a:ln w="0">
            <a:noFill/>
          </a:ln>
        </p:spPr>
      </p:pic>
      <p:pic>
        <p:nvPicPr>
          <p:cNvPr id="143" name="Picture 8" descr="reading"/>
          <p:cNvPicPr/>
          <p:nvPr/>
        </p:nvPicPr>
        <p:blipFill>
          <a:blip r:embed="rId2"/>
          <a:stretch/>
        </p:blipFill>
        <p:spPr>
          <a:xfrm>
            <a:off x="2590920" y="2514600"/>
            <a:ext cx="796680" cy="114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omic Sans MS"/>
              </a:rPr>
              <a:t>Assessment of Student Success</a:t>
            </a:r>
            <a:endParaRPr b="1" lang="en-US" sz="3200" spc="-1" strike="noStrike">
              <a:solidFill>
                <a:srgbClr val="006666"/>
              </a:solidFill>
              <a:latin typeface="Arial"/>
            </a:endParaRPr>
          </a:p>
        </p:txBody>
      </p:sp>
      <p:sp>
        <p:nvSpPr>
          <p:cNvPr id="145"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Comic Sans MS"/>
              </a:rPr>
              <a:t>Formative</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Evaluations of self</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Peer evaluation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Rubric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Checklists</a:t>
            </a: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6"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Comic Sans MS"/>
              </a:rPr>
              <a:t>Summative</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Grades on independent assignment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Grades on unit test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Reading MSA score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County benchmark assessment scores</a:t>
            </a: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omic Sans MS"/>
              </a:rPr>
              <a:t>Summary of KIDBLOG.ORG</a:t>
            </a:r>
            <a:endParaRPr b="1" lang="en-US" sz="3200" spc="-1" strike="noStrike">
              <a:solidFill>
                <a:srgbClr val="006666"/>
              </a:solidFill>
              <a:latin typeface="Arial"/>
            </a:endParaRPr>
          </a:p>
        </p:txBody>
      </p:sp>
      <p:sp>
        <p:nvSpPr>
          <p:cNvPr id="14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Comic Sans MS"/>
              </a:rPr>
              <a:t>KIDBLOG will provide excitement for your students as they approach the task of responding to text before, during and after reading.  They will benefit by integrating technology into their daily learning and, at the same time, refine their writing skills through the use of this program.  </a:t>
            </a:r>
            <a:endParaRPr b="0" lang="en-US" sz="2000" spc="-1" strike="noStrike">
              <a:solidFill>
                <a:srgbClr val="003366"/>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Comic Sans MS"/>
              </a:rPr>
              <a:t>Let’s get started!!</a:t>
            </a:r>
            <a:endParaRPr b="0" lang="en-US" sz="2000" spc="-1" strike="noStrike">
              <a:solidFill>
                <a:srgbClr val="003366"/>
              </a:solidFill>
              <a:latin typeface="Arial"/>
            </a:endParaRPr>
          </a:p>
        </p:txBody>
      </p:sp>
      <p:pic>
        <p:nvPicPr>
          <p:cNvPr id="149" name="Picture 7" descr="kidblog"/>
          <p:cNvPicPr/>
          <p:nvPr/>
        </p:nvPicPr>
        <p:blipFill>
          <a:blip r:embed="rId1"/>
          <a:stretch/>
        </p:blipFill>
        <p:spPr>
          <a:xfrm>
            <a:off x="5181480" y="2590920"/>
            <a:ext cx="2659320" cy="2830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omic Sans MS"/>
              </a:rPr>
              <a:t>Bibliography</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Chappuis, S., &amp; Chappuis, J. (2007/2008, December/January). The best value in formative assessment. Educational Leadership, 65(4), 14-19.</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Libraries, A.A. (1998).  Information Power:  Building Partnerships for Learning.  Chicago:  American Library Association.</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ISTE/NETS-S (n.d.)  International society for technology in education.  Retrieved on July 20, 2010 from http://www.iste.org/content/navigationmenu/nets/for_students.htm</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LeMire, R., Papinchock, T., Shimek, S., Zvitkovitz, L.,  (Producer).  (2010). Welcome to presentation of kidblog.org.  [Web].  Retrieved from http://kidblogpresentation.wikispaces.com/</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School Improvement in Maryland.  (1997-2009).  Teaching and Learning:  Reading/English Language Arts.  Retrieved from http://mdk12.org/instruction/curriculum/reading/index.html</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Sandy Hill Elementary School Improvement Team.  (2009). 2009-2010 School Improvement Plan.  Sandy Hill Elementary School.</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The Concerns-Based Adoption Model (CBAM): A Model for Change in Individuals.  (2004).  Stages of Concern.   Retrieved on July 19, 2010 from http://www.ncrel.org/sdrs/areas/issues/educatrs/profdevl/pd2stage.htm</a:t>
            </a:r>
            <a:endParaRPr b="0" lang="en-US" sz="12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omic Sans MS"/>
              </a:rPr>
              <a:t>Tomlinson, Carol Ann. (2007/2008, December/ January). Learning to love assessment. Educational Leadership, 65(4), 8-13.</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Comic Sans MS"/>
              </a:rPr>
              <a:t>A Brief Introduction to KIDBLOG.ORG</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17859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Click on the link below:</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ttp://prezi.com/j35mpg4ehxee/intro-to-kidblog/</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07" name="Picture 7" descr="kidblog"/>
          <p:cNvPicPr/>
          <p:nvPr/>
        </p:nvPicPr>
        <p:blipFill>
          <a:blip r:embed="rId1"/>
          <a:stretch/>
        </p:blipFill>
        <p:spPr>
          <a:xfrm>
            <a:off x="3683160" y="4300560"/>
            <a:ext cx="2001600" cy="17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omic Sans MS"/>
              </a:rPr>
              <a:t>Basic Information for Teachers about KIDBLOG</a:t>
            </a:r>
            <a:endParaRPr b="1" lang="en-US" sz="32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KIDBLOG is safe and private</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KIDBLOG is viewable by students and teachers</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Made specifically for classroom use</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Easy to use and requires little training</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Promotes the importance of writing</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Allows teachers to monitor writing activit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US" sz="2800" spc="-1" strike="noStrike">
                <a:solidFill>
                  <a:srgbClr val="003366"/>
                </a:solidFill>
                <a:latin typeface="Comic Sans MS"/>
              </a:rPr>
              <a:t>Motivating Reasons and Benefits for Using KIDBLOG</a:t>
            </a:r>
            <a:endParaRPr b="1" lang="en-US" sz="28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Inspires kids to write</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Enables publishing of previous writing</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Provides an authentic audience</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Infuses technology into learning</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Enables comments on other’s work</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Creates a community of strong writ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Comic Sans MS"/>
              </a:rPr>
              <a:t>KIDBLOG can be used in the reading classroom…</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to emphasize comprehension strategies before, during and after reading</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to encourage collaboration</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to promote reading and writing</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to make predictions before reading text</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to respond to a BCR after reading text</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to interact with others reading the same text</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14" name="Picture 5" descr="kidsoncomputer"/>
          <p:cNvPicPr/>
          <p:nvPr/>
        </p:nvPicPr>
        <p:blipFill>
          <a:blip r:embed="rId1"/>
          <a:stretch/>
        </p:blipFill>
        <p:spPr>
          <a:xfrm>
            <a:off x="7238880" y="3200400"/>
            <a:ext cx="107820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Comic Sans MS"/>
              </a:rPr>
              <a:t>Sandy Hill Elementary School</a:t>
            </a:r>
            <a:br>
              <a:rPr sz="3200"/>
            </a:br>
            <a:r>
              <a:rPr b="1" lang="en-US" sz="3200" spc="-1" strike="noStrike">
                <a:solidFill>
                  <a:srgbClr val="666699"/>
                </a:solidFill>
                <a:latin typeface="Comic Sans MS"/>
              </a:rPr>
              <a:t>2009 AYP Reading Proficiency</a:t>
            </a:r>
            <a:endParaRPr b="1" lang="en-US" sz="3200" spc="-1" strike="noStrike">
              <a:solidFill>
                <a:srgbClr val="006666"/>
              </a:solidFill>
              <a:latin typeface="Arial"/>
            </a:endParaRPr>
          </a:p>
        </p:txBody>
      </p:sp>
      <p:graphicFrame>
        <p:nvGraphicFramePr>
          <p:cNvPr id="116" name=""/>
          <p:cNvGraphicFramePr/>
          <p:nvPr/>
        </p:nvGraphicFramePr>
        <p:xfrm>
          <a:off x="838080" y="2362320"/>
          <a:ext cx="7693200" cy="3724200"/>
        </p:xfrm>
        <a:graphic>
          <a:graphicData uri="http://schemas.openxmlformats.org/drawingml/2006/table">
            <a:tbl>
              <a:tblPr/>
              <a:tblGrid>
                <a:gridCol w="1924200"/>
                <a:gridCol w="1922400"/>
                <a:gridCol w="1924200"/>
                <a:gridCol w="1922400"/>
              </a:tblGrid>
              <a:tr h="1002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Comic Sans MS"/>
                        </a:rPr>
                        <a:t>Grade Level</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Comic Sans MS"/>
                        </a:rPr>
                        <a:t>Advanced</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Comic Sans MS"/>
                        </a:rPr>
                        <a:t>Proficient</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Comic Sans MS"/>
                        </a:rPr>
                        <a:t>Basic</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1002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Grade 3</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6.6</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67.2</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26.2</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02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Grade 4</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8.0</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65.3</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26.7</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1002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Grade 5</a:t>
                      </a:r>
                      <a:endParaRPr b="0" lang="en-US" sz="2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47.5</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42.6</a:t>
                      </a:r>
                      <a:endParaRPr b="0" lang="en-US" sz="2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9.8</a:t>
                      </a:r>
                      <a:endParaRPr b="0" lang="en-US" sz="2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Comic Sans MS"/>
              </a:rPr>
              <a:t>Sandy Hill School S.I.P. At A Glance</a:t>
            </a:r>
            <a:br>
              <a:rPr sz="2000"/>
            </a:br>
            <a:r>
              <a:rPr b="1" lang="en-US" sz="2000" spc="-1" strike="noStrike">
                <a:solidFill>
                  <a:srgbClr val="006666"/>
                </a:solidFill>
                <a:latin typeface="Comic Sans MS"/>
              </a:rPr>
              <a:t>Some things you need to know as we “bee” gin a new school year!</a:t>
            </a:r>
            <a:endParaRPr b="1" lang="en-US" sz="2000" spc="-1" strike="noStrike">
              <a:solidFill>
                <a:srgbClr val="006666"/>
              </a:solidFill>
              <a:latin typeface="Arial"/>
            </a:endParaRPr>
          </a:p>
        </p:txBody>
      </p:sp>
      <p:sp>
        <p:nvSpPr>
          <p:cNvPr id="118"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omic Sans MS"/>
              </a:rPr>
              <a:t>  </a:t>
            </a:r>
            <a:endParaRPr b="0" lang="en-US" sz="1800" spc="-1" strike="noStrike">
              <a:solidFill>
                <a:srgbClr val="003366"/>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omic Sans MS"/>
              </a:rPr>
              <a:t> </a:t>
            </a:r>
            <a:r>
              <a:rPr b="1" lang="en-US" sz="2800" spc="-1" strike="noStrike">
                <a:solidFill>
                  <a:srgbClr val="666699"/>
                </a:solidFill>
                <a:latin typeface="Comic Sans MS"/>
              </a:rPr>
              <a:t>What:</a:t>
            </a:r>
            <a:endParaRPr b="0" lang="en-US" sz="2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omic Sans MS"/>
              </a:rPr>
              <a:t>	</a:t>
            </a:r>
            <a:r>
              <a:rPr b="1" lang="en-US" sz="1800" spc="-1" strike="noStrike">
                <a:solidFill>
                  <a:srgbClr val="666699"/>
                </a:solidFill>
                <a:latin typeface="Comic Sans MS"/>
              </a:rPr>
              <a:t>Professional Development will be provided on teaching Before and During Reading Comprehension strategies to Reading teachers to ensure effective instruction on comprehension strategies.</a:t>
            </a:r>
            <a:endParaRPr b="0" lang="en-US" sz="1800" spc="-1" strike="noStrike">
              <a:solidFill>
                <a:srgbClr val="003366"/>
              </a:solidFill>
              <a:latin typeface="Arial"/>
            </a:endParaRPr>
          </a:p>
        </p:txBody>
      </p:sp>
      <p:sp>
        <p:nvSpPr>
          <p:cNvPr id="119" name="PlaceHolder 2"/>
          <p:cNvSpPr>
            <a:spLocks noGrp="1"/>
          </p:cNvSpPr>
          <p:nvPr>
            <p:ph/>
          </p:nvPr>
        </p:nvSpPr>
        <p:spPr>
          <a:xfrm>
            <a:off x="4760640" y="2361960"/>
            <a:ext cx="3770280" cy="372420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99"/>
                </a:solidFill>
                <a:latin typeface="Comic Sans MS"/>
              </a:rPr>
              <a:t>Who:</a:t>
            </a:r>
            <a:endParaRPr b="0" lang="en-US" sz="2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mic Sans MS"/>
              </a:rPr>
              <a:t>	</a:t>
            </a:r>
            <a:r>
              <a:rPr b="1" lang="en-US" sz="1800" spc="-1" strike="noStrike">
                <a:solidFill>
                  <a:srgbClr val="666699"/>
                </a:solidFill>
                <a:latin typeface="Comic Sans MS"/>
              </a:rPr>
              <a:t>All students performing below grade level as indicated by SRI, benchmarks, classroom data, and FARMS students</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0" name="Picture 8" descr="welcoming bee"/>
          <p:cNvPicPr/>
          <p:nvPr/>
        </p:nvPicPr>
        <p:blipFill>
          <a:blip r:embed="rId1"/>
          <a:stretch/>
        </p:blipFill>
        <p:spPr>
          <a:xfrm>
            <a:off x="4495680" y="2362320"/>
            <a:ext cx="8334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Comic Sans MS"/>
              </a:rPr>
              <a:t>Are you asking me to change </a:t>
            </a:r>
            <a:br>
              <a:rPr sz="3200"/>
            </a:br>
            <a:r>
              <a:rPr b="1" lang="en-US" sz="3200" spc="-1" strike="noStrike">
                <a:solidFill>
                  <a:srgbClr val="666699"/>
                </a:solidFill>
                <a:latin typeface="Comic Sans MS"/>
              </a:rPr>
              <a:t>AGAIN?!?!</a:t>
            </a:r>
            <a:endParaRPr b="1" lang="en-US" sz="3200" spc="-1" strike="noStrike">
              <a:solidFill>
                <a:srgbClr val="006666"/>
              </a:solidFill>
              <a:latin typeface="Arial"/>
            </a:endParaRPr>
          </a:p>
        </p:txBody>
      </p:sp>
      <p:sp>
        <p:nvSpPr>
          <p:cNvPr id="122"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cccc"/>
                </a:solidFill>
                <a:uFillTx/>
                <a:latin typeface="Comic Sans MS"/>
              </a:rPr>
              <a:t>Assumptions about Change:</a:t>
            </a:r>
            <a:endParaRPr b="0" lang="en-US" sz="2000" spc="-1" strike="noStrike">
              <a:solidFill>
                <a:srgbClr val="003366"/>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Comic Sans MS"/>
              </a:rPr>
              <a:t>Change is a process, not a single event, that occurs over time.  It requires persistence and  tim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omic Sans MS"/>
              </a:rPr>
              <a:t>“</a:t>
            </a:r>
            <a:r>
              <a:rPr b="1" i="1" lang="en-US" sz="2000" spc="-1" strike="noStrike">
                <a:solidFill>
                  <a:srgbClr val="003366"/>
                </a:solidFill>
                <a:latin typeface="Comic Sans MS"/>
              </a:rPr>
              <a:t>Teachers must engage in high-quality, on-going professional</a:t>
            </a:r>
            <a:br>
              <a:rPr sz="2000"/>
            </a:br>
            <a:r>
              <a:rPr b="1" i="1" lang="en-US" sz="2000" spc="-1" strike="noStrike">
                <a:solidFill>
                  <a:srgbClr val="003366"/>
                </a:solidFill>
                <a:latin typeface="Comic Sans MS"/>
              </a:rPr>
              <a:t>development and training to understand how to fully and effectively</a:t>
            </a:r>
            <a:br>
              <a:rPr sz="2000"/>
            </a:br>
            <a:r>
              <a:rPr b="1" i="1" lang="en-US" sz="2000" spc="-1" strike="noStrike">
                <a:solidFill>
                  <a:srgbClr val="003366"/>
                </a:solidFill>
                <a:latin typeface="Comic Sans MS"/>
              </a:rPr>
              <a:t>utilize technology in the classroom to ensure that the</a:t>
            </a:r>
            <a:br>
              <a:rPr sz="2000"/>
            </a:br>
            <a:r>
              <a:rPr b="1" i="1" lang="en-US" sz="2000" spc="-1" strike="noStrike">
                <a:solidFill>
                  <a:srgbClr val="003366"/>
                </a:solidFill>
                <a:latin typeface="Comic Sans MS"/>
              </a:rPr>
              <a:t>benefits of technology use translate down to the kids.”</a:t>
            </a:r>
            <a:endParaRPr b="1" lang="en-US" sz="2000" spc="-1" strike="noStrike">
              <a:solidFill>
                <a:srgbClr val="006666"/>
              </a:solidFill>
              <a:latin typeface="Arial"/>
            </a:endParaRPr>
          </a:p>
        </p:txBody>
      </p:sp>
      <p:sp>
        <p:nvSpPr>
          <p:cNvPr id="124"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99"/>
                </a:solidFill>
                <a:latin typeface="Comic Sans MS"/>
              </a:rPr>
              <a:t>Bob Marshall, CEO and President, AWS Convergence</a:t>
            </a:r>
            <a:endParaRPr b="0" lang="en-US" sz="2000" spc="-1" strike="noStrike">
              <a:solidFill>
                <a:srgbClr val="003366"/>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99"/>
                </a:solidFill>
                <a:latin typeface="Comic Sans MS"/>
              </a:rPr>
              <a:t>Technologies, In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9T17:24:24Z</dcterms:created>
  <dc:creator>Mike Lemire</dc:creator>
  <dc:description/>
  <dc:language>en-US</dc:language>
  <cp:lastModifiedBy>Katie Douglas</cp:lastModifiedBy>
  <dcterms:modified xsi:type="dcterms:W3CDTF">2010-07-26T19:14:58Z</dcterms:modified>
  <cp:revision>44</cp:revision>
  <dc:subject/>
  <dc:title>Implementing KIDBLOG in the Reading Classroom</dc:title>
</cp:coreProperties>
</file>